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0DE-8612-45A1-BAC8-AD560474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6E3-8F4F-4783-B3E0-56A6771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3C33-8553-40F8-864D-11DB094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A2A7-56A9-4601-8C1E-6FBCE8AD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5989D-C272-4176-8562-127CA5C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9C2CA-D1E8-4361-AFDE-E58BED8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3241C-FA6B-4F85-8B2E-F696CBA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2C6B1-F10E-4F43-86EF-7FC1FE6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DA47C-C182-4E58-B777-E6DBBA4B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B89AB-C660-4AA0-8FBB-A577DF1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476A6-2754-418C-A246-24CE9641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C60A8-D5E3-43E9-A034-35638C58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B3F-B528-4404-863E-162FCCB2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D57CF-8CA3-4BB8-9FB9-D61A74B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E23E6-1AA6-40DC-BBD3-F775CEA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0CD4D-4D8F-4A4B-B547-EF99FCC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56B0-0D2C-4EBD-8F56-FA8D26D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8CA45-7BB8-43EE-BC95-954BF101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79066-710C-491D-B9BE-94B9DBB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3202-6FB4-4A47-BD22-DC44119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3B87-7211-41F8-BBE8-A24B7AC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A5B5D-C5A2-437F-B4C7-069EC29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1E190-028D-42F5-A47E-EAF32CA1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DC7-E362-41DD-A447-B695ABED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09427-6043-4A89-A7E6-FA2BD3C2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A9390-3333-406D-8A27-07D8490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CF23-1EAE-486F-B82F-5F967C3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26559-F9D7-4F1A-8272-C19A06A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7E94-B7D8-4EF5-8515-05FF7A29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E69B-CC28-4CC6-B085-18D13867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4947-0581-435B-9472-5009AF3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531DE-E489-4E4F-A920-DF0AD87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87BCA-6FDF-48BC-B829-B469590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0D4C-16AC-4212-966B-0231E6C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EC9-8769-439F-868D-B92D3C71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2F24-FAEA-4590-B619-4EFD518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5AC5-50EE-497C-AEE5-B26AE247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09E10-E690-4478-AE08-13152A41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3407-FDD6-4AC9-B3B9-6AC280A2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CC35F-89EF-4613-BEEC-2432D31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31A6-EF5F-4F18-9F48-FF6CD2F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F4F9D-6CE1-4AFA-A8E5-A2ACCC1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7D7C7-0E98-4FC7-9DB6-F00B484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1191-16E6-4FAB-9C0E-029F0D38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B839F-25A7-4ABD-A64B-A2DA6CA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4B9-6DE9-470C-91F3-8DF3851E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DA0C7-C8FE-48C3-B207-91AD180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4C35E-A438-49D3-8C7F-7E1BF42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7371B-9145-463C-BF28-7141B1A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92E5-3933-42E6-83B1-3FD9AF1E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D2665-B4DE-4453-BFC7-8F395C5E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3FEE6-A55D-470D-B021-7D152995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67516-234A-4B95-B6F5-0428A0EF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CE7C2-CE69-48FE-B7DB-BBEE3AE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DDA86-EF84-435D-8147-C4B68FAB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1FC9C-DEBF-49A3-A6D7-720C1FA3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FB0-7FC3-4786-81BF-A309FE96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C7166-A22D-4EDC-9E0C-3B5D84BF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590E7-72CC-48DA-9B64-D286501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30BF4-91AD-4568-8611-0AAE729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8C9D8-78C0-4623-8593-62672BB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E9C7B-D611-4D58-BDAB-D16C7BC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3645E-CEF2-41CE-9132-273BF05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CA75D-6850-409D-A6CA-FD49C026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545DE-88F0-4F4C-ACFE-3C6DEC96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998D2-4E42-46E4-83BB-D585D32E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E5CF7-AFB3-46B4-BE9D-1B6FF072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7B9-F1F6-44BB-B9D2-0044C496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7A10A-13EB-4459-BE66-CC05BDC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B1DAB-BCD4-4B2F-BA87-E356C62E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E3DE5-25B3-4D69-B4C4-534DD9BC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F2E53-D4CC-4DC8-8F25-999414B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F7C6A-362D-4F7F-AF84-3BAC25B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DF11B-841A-49FC-9E13-B028AFF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8A798-D035-4259-85FD-55C1153A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7AED9-10A1-4CAF-82FC-FF6046DF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96B4D-AEE0-4CEB-9D50-5B445653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B9DE0-67A3-472B-AFE7-6BC51431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F09E-7F6F-40D3-AD38-00E94C4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CBC88-3456-4F31-80D4-D8A13DC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F091D-D2BC-4F0F-A3A1-3A32E3AF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401A2-8647-484A-9F61-A26C28B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21BBB-6DD3-4732-BD4A-C5B4D30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DEEB6-3C38-48E4-A8E0-E8D8736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8E4FF-0A10-4BB7-8CD0-67DD1C3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08A71-865E-431D-99CC-7BE5217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D794E-FA84-421D-BD54-77FE4325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30C6C-4811-4AD4-BB6A-73322FC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2BEC6-7D50-4FDE-8162-C5B8D151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566-BC21-404B-B4E2-73F64AC0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6BE09-086F-44F0-BAFB-3969C47F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DEB6A-5E9E-4999-98BC-CEC90A19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BAAE3-C4F3-4696-82F3-6296FA6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47317-0032-47EB-89DE-A2ED2ED1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4B8F6-95A7-40CE-B5DB-8CE7F99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4C1FF-E99B-4DF6-ABB2-9204DBC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252F5-CE1C-4501-94F4-06DCE96F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810A6-A276-4998-B293-0DEE50B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62990-BB40-45BA-B7EF-025B19E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8548F-8F84-4228-AF64-80389C3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109-FEFF-4E61-8360-3D47654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C1E32-5802-4754-86A4-1FF4B66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F650D-8DF0-4CA5-80A6-58B2A780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F6FC3-8BED-437A-B756-A6DEDC7F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EF9A3-5E0B-485A-8840-B4A3D7EA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A8AA5-1993-485B-9FA6-14C1430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82F00-79D2-4006-90B6-BDF71688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DEFD9-A98A-4958-9520-7EDCC2AF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31E05-57DA-46FF-947C-2C974BB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08EE5-1760-4918-87C3-A23F740F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A5303-9C6C-4259-89D6-4D220C2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538-1F0D-406B-8B70-47B7DB72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4F38-B945-4B9D-B0CB-EE1A73E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F7F16-7309-437D-B231-3E4D04C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E386E-7E8A-4AF8-860F-D8AEE07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350C6-900A-406A-98B0-D71F8DFB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52A03-ABC3-42C7-84A5-77A1DF47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3D1CE-BD54-4E62-8FCD-F9D36965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751B6-E438-420C-ACFD-427F6162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F8449-E0D9-4DAA-9B3D-DD91C27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94811-992C-48B3-B439-9665B6C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72F42-0D17-4AD6-AC5F-5C36FFA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22204-F831-406B-8DBA-30CE03C0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62E9-3F05-4BCE-8FD3-57D0DA6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5FFCD-B454-4C1B-8429-11AAAA19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DFCCA-9E6F-4B13-ADF5-14477E9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52602-AEFB-42A9-B1AD-8BF0A52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CC2C5-A717-4897-8663-1E9C06A6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0533E-38B8-4F5E-84DA-20B0B54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9A91A-DAA5-470D-B91B-F2458A2F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82F0D-0DCE-487C-BDEC-D4DCC744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9218F-04EF-4217-A8CC-75593D3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F6951-5F65-4CF2-AE3D-E37A5FE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E229D-3BB5-491F-921F-37160D3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62BA-3420-4452-AFB4-6C9AC39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84835-E663-458F-A5A7-85B5A1D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92337-052F-4C41-9F36-E0B2BEE4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B82D2-95B4-4FE1-A1B7-481D58C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D1993-108C-4F1F-9314-08511C4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37693-3072-4981-9389-E159C8D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57261-02C2-45FF-ACDF-F38F918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3C8F1-69A4-4797-A91B-00EE41C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285DA-F402-4599-A52B-3058C335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5171A-3513-48CD-BFF9-27C39818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683DD-9911-4B8D-B334-35BEFB65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F597-2BC9-481D-9979-B15126E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3EDDF-C8BD-4C83-8063-05DFEDAE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AD133-9898-4C54-B939-F445F6B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FFF72-4B51-48DF-948C-2D4FF0C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107BD-FF10-4244-B770-25E8601D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CED1F-A0F8-4E48-8EE8-61CE6B0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9231E-8A90-457D-92D1-64C0A96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8C764-08D1-4D10-872F-9BA60FB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63E4A-36AC-4170-A155-A8B2556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230DF-8692-49AA-A191-870DF451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D3F17-8609-4484-92F5-820B5D62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45C7-6ADC-48A0-9CAD-225369FE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C1D64-B2E9-47D0-817C-9BFAF046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8671A-6404-46C9-AA03-B789E930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B83BE-DC27-451F-AA1F-DF4917FD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C1B56-28EF-42CF-9C6E-B9974AE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A6C34-D89C-4115-B8AC-13F98B9F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EA519-BCF1-43D5-A65D-08549A2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486AF-F611-40C2-9123-CCDF0E4E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A46CD-65CB-43B5-A8AB-66B6495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CCAE2-C886-4A5D-97CD-895AE41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24343-8D89-4D4D-8243-862CA8EC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F54A-FF50-4255-AF9F-9E7FFAF2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750CD-D3FB-4025-A587-64266B0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53CFE-FBFA-4A48-B319-BF3109F6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8CCFF2-F5CF-4692-8172-FB188DA5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59E1-CA91-43A2-BF16-02E337F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86C3-57A4-44EF-82CA-48B62F4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67AB-6DF6-45EA-88F1-A19E96B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AAA6-240F-47B6-9800-CB423E6F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9EB-1A14-4CC4-BC76-0F490EE1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4594-B082-4B83-A79B-675ED03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97EB-DC5E-471D-A6FD-3A1A49B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11F7-39CD-4879-B078-A482E4D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3F5C-C9AE-405E-9BCF-950695E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37E1-50F6-45BE-8F10-D99927C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656B-138D-4EA9-B9AF-F25266A6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2F2C-F2D7-4EF5-BEB0-20E37E05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ABD4-FB35-4EC0-967F-D44B9229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CB38-EB7E-4A8C-B5BE-76BA1FD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E777-E0B3-49F1-A2D7-B3778D9B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888-2CDF-4104-9131-477CE9B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4558-D0C9-48F1-8D46-6A754FE9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F95D-5855-4297-B25B-769848B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EC1E-101E-4D7C-8AE6-A67906E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87E4-D81A-46F2-845F-51D8496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FE8B-E6A3-4EDB-BE51-844C56D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A8B2-2B69-44C7-A867-5D4693B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0352-C675-4004-9435-D4B55627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5DF3-3FE0-4EDF-A763-0584E039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2C69-2473-4025-B533-DB3568A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9912-D649-4C3F-A421-9FA19F7B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179-D01D-4262-B0D0-48825612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DE75-FDED-446E-9D22-92EC72F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B09F-E499-4777-AC88-F346F71D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0335-D4D4-4692-9258-9E39EAA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9A6D-BED9-4717-B34D-5807A01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37FC5-2745-429B-BA7D-7BE38513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0937-8B6C-413C-AA00-FC253BA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0B2F-5A43-4B6F-8A4C-8D6C1D4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EE81-F334-4DEE-AAF9-D2F0193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B021-5803-4905-B02F-CE4E3A1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E8A9-48EB-4D30-A905-A3A08D46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114-1C5F-4F64-AD3C-9A55579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5DF5-D798-46D8-BF96-C32D19DA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E9E0-CE5E-49B5-986A-CDC78DED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D288B-E316-4C23-B7EB-7B16E1EE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5795-0514-4B01-B47D-0B035E88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9280-14D6-4C38-A56C-94147AE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43B7-DC69-4A00-8CCA-4A8A483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5659-B4C9-472A-ABCE-A7C1BCD3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1E83-A3FC-41DD-9834-9079D08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7594-2B61-4B4C-B266-B19A333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28F7-8A2B-42BB-A91B-9ED98A4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F1A-B63E-4878-BF3D-D6FE2A3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CCA74-26A6-4743-94BA-D829490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7264-C54C-4968-852D-7781D015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82F4-0EE4-4162-8151-B45E881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6B20-B330-4745-9C15-0AB65C13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B1238-DE4A-42CD-81AB-AFA899D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3181-9854-4DBB-A6DE-BA898DC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6A35-E81B-4C8B-B579-54C479D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E698-A77E-4471-B765-38D7B37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C5CE-4758-4221-A39E-BDE2DE5C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E6C51-48DB-43D6-9FAC-53F11F9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74D-706E-448E-965B-7C11DAB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114E8-E123-4466-9034-CB48718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902BC-5007-4666-A259-830D103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3AF4-19A6-4336-9E24-6348506C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25D2-3659-4F12-904C-0011EE78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EF8B1-F1EA-4F56-A098-AD7FB5DF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B2B11-1FA0-499B-A47E-37AFA7D8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B156A-9189-496D-8218-3A8ADE18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DF0A-ED0D-418D-B7FF-E7ED559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76B5-33CF-4BA4-8AC1-F979C3A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9855-EB1D-4AFB-9DF5-42F7C5C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0A6-3C54-439D-BCEB-B1C2CE1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739A-800C-4DBF-9C9F-CA1D150C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7B522-CDCB-4ACD-A62A-A11B83D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08CAD-3625-43B6-A9E2-3D413F3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87F91-8471-40B3-95DA-6538118E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B060-003F-4935-966D-8A6686A3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654D-A797-4BA7-9B68-A6101C58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A8F66-DCF3-4C9C-A527-08F2CCE3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D26DD-CFC2-4F7C-BFC6-D23E59B6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933BE-CCF1-414D-8CB9-7C79C01D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F761E-E6D7-4EC0-B390-0EDB39FD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13E-E8D7-42BD-9A6D-13724F3D0B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A87-6C71-4C90-9EC3-F7441C4A6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4CA-6E2F-40F8-B28D-4D72210FC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AB8-05DC-4E5F-940B-0C034D808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605B-DFD5-4001-AFAC-24A288E75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B96-B683-4E07-90C5-F0FF7765C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521-53B3-4468-9BD5-80CA234F5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52D-150D-41F7-88CA-6631622D3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518-DD2A-4EB4-A836-B4316A835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399-E2E2-49A0-9C4C-9A4FD3430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1AA-D9A1-4D65-B33B-3C893C59D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C3B-4FF0-4760-8764-C492688EA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CC3-D00A-4FEA-B8CE-E741A069D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4AE-B711-4D08-8A7D-34A0597D3A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3C6-8367-4826-9EF4-015520DD8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50F-4D11-471F-9245-E61D961F0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B4BA-5825-42B7-9637-09881541C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EAED-A767-46AE-A024-905139CA8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01EE-F271-4DE7-99B5-B74DEEDE9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59CD-DE05-4211-9A09-04D78D8C1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B747-A936-4119-BEE8-4176A2E957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71A3-57AC-4E3C-B8CF-33BF90141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1FA-CC9F-4FED-8B6D-BE1B945575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AAD-4515-46CC-AEA6-836BEB4538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9F33-12B0-4D58-AD61-6837F4EE8B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A52-D7BB-407B-9F03-9520C5D0A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28D-9718-455A-8A33-5149974A7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58F-E8F7-4B8D-BC72-158D43B50D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BD34-A05F-4802-9E0D-A95CD25F2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D59-B902-4B50-9100-DD10A3748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40F-C950-4BFA-9137-DB05734D1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252-A344-4130-AFDF-F8F9BFED24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283-C167-4394-9623-0675F0D8C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C76-3B70-49D7-8695-203C3403B6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6AA-6BDB-48A0-9BB2-39D2770E57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632-0E59-40EB-9D1C-8B5FC87A40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3B88-EB20-4670-BF47-D7C138A6F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FF2-3809-4531-BD06-DF716738F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C3C-D6E9-4B38-883A-A3AC8597CE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547-6061-4399-ADB2-5CECFB11E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76280" y="2838600"/>
            <a:ext cx="63914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14360" y="585720"/>
            <a:ext cx="8315280" cy="568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87640" y="2651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10040" y="2651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01004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46760" y="26510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946760" y="30542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4036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9403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94836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9483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95672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956720" y="30402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042920" y="3860640"/>
            <a:ext cx="4608720" cy="319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95280" y="5950080"/>
            <a:ext cx="460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138240" y="673200"/>
            <a:ext cx="8867520" cy="5924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468360" y="2522520"/>
            <a:ext cx="395928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95928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95280" y="6021360"/>
            <a:ext cx="3959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20:4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